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615A-5A4B-49AD-9265-AF93429C5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search groups: PERG, 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search centers: DISC, ARI, CPS, CM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F876-144E-45B0-8C61-23E7C9880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47920" y="37497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4792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736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47920" y="37497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95560" y="37497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3200" y="37497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736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497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497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736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497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5560" y="37497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43200" y="37497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4792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736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920" y="37497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447920" y="5791320"/>
            <a:ext cx="7315200" cy="838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33" descr="ceulog"/>
          <p:cNvPicPr/>
          <p:nvPr/>
        </p:nvPicPr>
        <p:blipFill>
          <a:blip r:embed="rId2"/>
          <a:stretch/>
        </p:blipFill>
        <p:spPr>
          <a:xfrm>
            <a:off x="304920" y="5791320"/>
            <a:ext cx="863640" cy="78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6"/>
          <p:cNvSpPr/>
          <p:nvPr/>
        </p:nvSpPr>
        <p:spPr>
          <a:xfrm>
            <a:off x="304920" y="533520"/>
            <a:ext cx="8381880" cy="5029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33" descr="ceulog"/>
          <p:cNvPicPr/>
          <p:nvPr/>
        </p:nvPicPr>
        <p:blipFill>
          <a:blip r:embed="rId2"/>
          <a:stretch/>
        </p:blipFill>
        <p:spPr>
          <a:xfrm>
            <a:off x="304920" y="5791320"/>
            <a:ext cx="863640" cy="7826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1600200" y="5867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Department of Public Polic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1295280" y="5791320"/>
            <a:ext cx="7467840" cy="838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bohled@ceu.hu" TargetMode="External"/><Relationship Id="rId2" Type="http://schemas.openxmlformats.org/officeDocument/2006/relationships/hyperlink" Target="mailto:fumagallim@ceu.hu" TargetMode="External"/><Relationship Id="rId3" Type="http://schemas.openxmlformats.org/officeDocument/2006/relationships/hyperlink" Target="mailto:sittern@ceu.hu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enyedizs@ceu.hu" TargetMode="External"/><Relationship Id="rId2" Type="http://schemas.openxmlformats.org/officeDocument/2006/relationships/hyperlink" Target="mailto:schneiderc@ceu.hu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239240" cy="495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굴림"/>
              </a:rPr>
              <a:t>Welcome to the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굴림"/>
              </a:rPr>
              <a:t>Doctoral School of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굴림"/>
              </a:rPr>
              <a:t>Political Science, Public Policy and International Relations</a:t>
            </a: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Orientation session for PhD students 2010/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447920" y="3581280"/>
            <a:ext cx="72388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143000" y="609480"/>
          <a:ext cx="7075440" cy="5548320"/>
        </p:xfrm>
        <a:graphic>
          <a:graphicData uri="http://schemas.openxmlformats.org/drawingml/2006/table">
            <a:tbl>
              <a:tblPr/>
              <a:tblGrid>
                <a:gridCol w="1143000"/>
                <a:gridCol w="658800"/>
                <a:gridCol w="1170000"/>
                <a:gridCol w="2590920"/>
                <a:gridCol w="620640"/>
                <a:gridCol w="892080"/>
              </a:tblGrid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es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tle of cour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d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arative Poli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n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rbert Kitsche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arative Politics and Political Econom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anced top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arative Poli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n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illippe Schmit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ending Theories of European Inte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anced top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national Rel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n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. Fumagalli, P. Roe, E. Jenne, M.Merlingen, X.Kurows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lict, Security, and Develo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anced top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national Rel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rina Papk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ligion and International Rel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anced top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national Rel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szlo Csa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itical Economy of the E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itical Econom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n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rbert Kitsche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arative Politics and Political Econom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anced top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itical The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n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oltan Miklo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ied Political Theory: Political Theory and Public Polic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anced top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itical The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n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os K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ding Seminar: Kant's Groundwork for the Metaphysics of Mor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ding semi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lic Poli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n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him Kemmerl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icy Reform and Failur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anced top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lic Poli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n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oltan Miklo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ied Political Theory: Political Theory and Public Polic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anced top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ogress and upgr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4792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PA: 3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rehensive Ex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ek of 11 April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spectus and Prospectus Def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June, 2011 and 17-22 June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4792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orary supervisor, Permanent supervisor, Supervisor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advice on course-choices you can rely on your temporary supervisor and on the track represen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designing your prospectus you will be helped by your supervisor and the instructor of the Prospectus seminar (Gabor Tok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7391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grou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al Economy Research Group (PER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al Behaviour Research Group (POLBE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South Research Group (GS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tional Relations Research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Policy Research Gro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cen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for European Research (CEUR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for the Study of Imperfections in Democracies (DISC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ia Research Initiative (ARI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for Policy Studies (CPS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for Media and Communication Studies (CMCS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nter for EU Enlargement Studies (CEN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political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U Political Science Jou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yond the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ademic Calen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on the webs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13 - 17 : zero week, one introductory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17, 3 pm: Opening Cerem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20 - December 10: fall sem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11: study plan sub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10 – April 1: winter sem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26: choose permanent supervisor, submit title of your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4 – June 15: Spring session (one course is offered: Beno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11-15: comprehensive ex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28-30: presentation of your work at Annual Doctoral Conference – all departments are inv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10: prospectus sub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17, 20-22: prospectus def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ernal li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.D. Network with the European University Institute, Instituto Italiano di Scienze Umane, London School of Economics and Political Science, Pompeu Fabra, Sciences Po and Humbodt University: doctor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vinus University: doctoral conferences, teaching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Siena: free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nex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71600" y="15238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ep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 September 4 pm, foyer in front of MB 2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ory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as Rudas - Survey Method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September, 10 am in FT 9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ina Papko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igion and Inter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September, 5:20 pm in FT 3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294920" y="8380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ds of De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rothee Bohle, PolS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ohled@ceu.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teo Fumagalli, 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umagallim@ceu.h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ick Sitter, DP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ittern@ceu.h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219320" y="380880"/>
            <a:ext cx="7315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ctoral School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solt Enyedi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yedizs@ceu.h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rack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ative Politics (CP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Carsten Schne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chneiderc@ceu.h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tical Economy (P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Achim Kemmer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mmerlinga@ceu.h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tical Theory (PT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Andres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lesa@ceu.hu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national Relations (IR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Erin Jen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nnee@ceu.h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ublic Policy (PP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Andreas Goldth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ldthaua@ceu.h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71600" y="9907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hool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zta Zsukotynsz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sukoty@ceu.h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partmental coordinato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ulia Paraizs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aizsj@ceu.h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iko Hegedus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P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gedusa@ceu.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kolett Jansik-Neme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sc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methn@ceu.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o to turn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ministrative que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School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ademic que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Track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bsi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http://www.ceu.hu/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urther inf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ds@ceu.h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14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ed out of 240 applic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65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5 tracks, 3 departments, 1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95280" y="1066680"/>
            <a:ext cx="7315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rative Politics; International Relations; Political Economy; Political Theory; Public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 de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ational Relations and European Studies; Political Science; Public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+ Facu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90+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gree, PhD in Politic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ological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ructure of Year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880" y="685800"/>
          <a:ext cx="8610840" cy="5116320"/>
        </p:xfrm>
        <a:graphic>
          <a:graphicData uri="http://schemas.openxmlformats.org/drawingml/2006/table">
            <a:tbl>
              <a:tblPr/>
              <a:tblGrid>
                <a:gridCol w="762120"/>
                <a:gridCol w="838080"/>
                <a:gridCol w="609840"/>
                <a:gridCol w="992160"/>
                <a:gridCol w="608040"/>
                <a:gridCol w="990360"/>
                <a:gridCol w="685800"/>
                <a:gridCol w="1027080"/>
                <a:gridCol w="573120"/>
                <a:gridCol w="914400"/>
                <a:gridCol w="609840"/>
              </a:tblGrid>
              <a:tr h="45720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c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tical The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arative Poli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tical Econom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national Rel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blic Poli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 rowSpan="4">
                  <a:txBody>
                    <a:bodyPr lIns="45000" rIns="4500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ck specific courses (generic tit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w Institutionalis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tical Institu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arative Political Econom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national Relations The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blic Poli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mocratic The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tical Soci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national Political Econom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national Security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 Governance and Public Policy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tical Philosoph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tical Dynam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tical Economy of Develo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national Political Econom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blic 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anced Top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anced Top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anced Topic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anced Topic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anced Topic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ck specific cred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4">
                  <a:txBody>
                    <a:bodyPr lIns="45000" rIns="4500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on cour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ral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ral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ral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ral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ral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spectus Semi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spectus Semi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spectus Semi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spectus Semi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spectus Semi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rse from other tr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rse from other tr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rse from other tr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rse from other tr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rse from other tr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earch Semi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earch Semi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earch Semi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earch Semi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earch Semi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datory cred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tional Min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rse from other trac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rse from other tr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rse from other tr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rse from other tr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rse from other tr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anc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ve core curriculum, two additional credits of the track are to be chosen from the category of courses labeled ‘Advanced Topics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3000" y="1828800"/>
          <a:ext cx="7505640" cy="3886200"/>
        </p:xfrm>
        <a:graphic>
          <a:graphicData uri="http://schemas.openxmlformats.org/drawingml/2006/table">
            <a:tbl>
              <a:tblPr/>
              <a:tblGrid>
                <a:gridCol w="868320"/>
                <a:gridCol w="668520"/>
                <a:gridCol w="1130040"/>
                <a:gridCol w="2819520"/>
                <a:gridCol w="708120"/>
                <a:gridCol w="1311120"/>
              </a:tblGrid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es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tle of cour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d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trac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mas Rud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hematical Statis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anced topics (method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trac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mas Rud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rvey Method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anced topics (method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trac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n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a Sg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course analy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anced topics (method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trac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n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bor To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ntitative Data Analy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anced topics (method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trac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n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omas Fetz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alysis of Change in Political Scien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anced topic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ethod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trac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n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sten Schnei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t-Theoretic Methods in the Social Sciences: Theory and 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anced topics (method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trac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nneth Beno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xt Analy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anced topics (method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12:34:28Z</dcterms:created>
  <dc:creator>CEU</dc:creator>
  <dc:description/>
  <dc:language>en-US</dc:language>
  <cp:lastModifiedBy>CEU</cp:lastModifiedBy>
  <dcterms:modified xsi:type="dcterms:W3CDTF">2010-09-15T13:28:22Z</dcterms:modified>
  <cp:revision>45</cp:revision>
  <dc:subject/>
  <dc:title>Slide 1</dc:title>
</cp:coreProperties>
</file>