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A62-DF59-4FF5-BAF0-4C89C278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groups: PERG, 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centers: DISC, ARI, CPS, CM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727-1C3B-4789-8E3A-01D55B8F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92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556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3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556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3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47920" y="5791320"/>
            <a:ext cx="7315200" cy="83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3" descr="ceulog"/>
          <p:cNvPicPr/>
          <p:nvPr/>
        </p:nvPicPr>
        <p:blipFill>
          <a:blip r:embed="rId2"/>
          <a:stretch/>
        </p:blipFill>
        <p:spPr>
          <a:xfrm>
            <a:off x="304920" y="5791320"/>
            <a:ext cx="86364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304920" y="533520"/>
            <a:ext cx="8381880" cy="502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33" descr="ceulog"/>
          <p:cNvPicPr/>
          <p:nvPr/>
        </p:nvPicPr>
        <p:blipFill>
          <a:blip r:embed="rId2"/>
          <a:stretch/>
        </p:blipFill>
        <p:spPr>
          <a:xfrm>
            <a:off x="304920" y="5791320"/>
            <a:ext cx="863640" cy="782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1600200" y="5867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Department of Public Poli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295280" y="5791320"/>
            <a:ext cx="7467840" cy="83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ohled@ceu.hu" TargetMode="External"/><Relationship Id="rId2" Type="http://schemas.openxmlformats.org/officeDocument/2006/relationships/hyperlink" Target="mailto:fumagallim@ceu.hu" TargetMode="External"/><Relationship Id="rId3" Type="http://schemas.openxmlformats.org/officeDocument/2006/relationships/hyperlink" Target="mailto:sittern@ceu.hu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enyedizs@ceu.hu" TargetMode="External"/><Relationship Id="rId2" Type="http://schemas.openxmlformats.org/officeDocument/2006/relationships/hyperlink" Target="mailto:schneiderc@ceu.hu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굴림"/>
              </a:rPr>
              <a:t>Welcome to the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굴림"/>
              </a:rPr>
              <a:t>Doctoral School of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굴림"/>
              </a:rPr>
              <a:t>Political Science, Public Policy and International Rela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rientation session for PhD students 2010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47920" y="3581280"/>
            <a:ext cx="7238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43000" y="609480"/>
          <a:ext cx="7075440" cy="5548320"/>
        </p:xfrm>
        <a:graphic>
          <a:graphicData uri="http://schemas.openxmlformats.org/drawingml/2006/table">
            <a:tbl>
              <a:tblPr/>
              <a:tblGrid>
                <a:gridCol w="1143000"/>
                <a:gridCol w="658800"/>
                <a:gridCol w="1170000"/>
                <a:gridCol w="2590920"/>
                <a:gridCol w="620640"/>
                <a:gridCol w="89208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tle of 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bert Kitsche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 and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lippe Schmi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ending Theories of European Inte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. Fumagalli, P. Roe, E. Jenne, M.Merlingen, X.Kurow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lict, Security, and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ina Papk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gion and 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zlo Cs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Economy of the E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bert Kitsche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 and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ltan Miklo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d Political Theory: Political Theory and Public Polic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os K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Seminar: Kant's Groundwork for the Metaphysics of Mor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him Kemmer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cy Reform and Fail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ltan Miklo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d Political Theory: Political Theory and Public Polic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gress and upg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479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PA: 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hensive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 of 11 April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spectus and Prospectus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June, 2011 and 17-22 June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479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y supervisor, Permanent supervisor, Supervisor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advice on course-choices you can rely on your temporary supervisor and on the track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designing your prospectus you will be helped by your supervisor and the instructor of the Prospectus seminar (Gabor To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Economy Research Group (PE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Behaviour Research Group (POLB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th Research Group (GS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Relations Researc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Policy Research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cen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European Research (CEUR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the Study of Imperfections in Democracies (DISC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 Research Initiative (ARI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Policy Studies (CP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Media and Communication Studies (CMC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nter for EU Enlargement Studies (C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polit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U Political Science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 the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ademic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on the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3 - 17 : zero week, one introductory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7, 3 pm: Opening Cere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 - December 10: fall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1: study plan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0 – April 1: winter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6: choose permanent supervisor, submit title of you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4 – June 15: Spring session (one course is offered: Beno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1-15: comprehensive 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8-30: presentation of your work at Annual Doctoral Conference – all departments are inv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0: prospectus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7, 20-22: prospectus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rna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.D. Network with the European University Institute, Instituto Italiano di Scienze Umane, London School of Economics and Political Science, Pompeu Fabra, Sciences Po and Humbodt University: doctor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vinus University: doctoral conferences, teach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iena: free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p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 September 4 pm, foyer in front of MB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ory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as Rudas - Survey 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September, 10 am in FT 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na Papk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igion and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September, 5:20 pm in FT 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ds of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rothee Bohle, PolS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hled@ceu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teo Fumagalli, 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magallim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k Sitter, DP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ittern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ctoral Schoo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solt Enyed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yedizs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ck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ative Politics (C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arsten Schn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neiderc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Economy (P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him Kemme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mmerlinga@ceu.h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Theory (P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ndres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lesa@ceu.h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Relations (I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Erin Je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nnee@ceu.h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c Policy (P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ndreas Gold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thaua@ceu.h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oo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zta Zsukotynsz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sukoty@ceu.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artmental coordin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lia Paraizs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izsj@ceu.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iko Hegedus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gedusa@ceu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olett Jansik-Neme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s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methn@ceu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to turn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ministrative que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choo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ademic que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rack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s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http://www.ceu.hu/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rther inf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s@ceu.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4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out of 240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65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 tracks, 3 departments, 1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10666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tive Politics; International Relations; Political Economy; Political Theory; Public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Relations and European Studies; Political Science; Public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+ Fa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0+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, PhD in Politic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ical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ure of Yea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685800"/>
          <a:ext cx="8610840" cy="511632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609840"/>
                <a:gridCol w="992160"/>
                <a:gridCol w="608040"/>
                <a:gridCol w="990360"/>
                <a:gridCol w="685800"/>
                <a:gridCol w="1027080"/>
                <a:gridCol w="573120"/>
                <a:gridCol w="914400"/>
                <a:gridCol w="609840"/>
              </a:tblGrid>
              <a:tr h="4572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ative Poli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rowSpan="4"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 specific courses (generic tit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Institutionali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ative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Relations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cratic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Soc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Security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 Governance and Public Policy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Philosop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Dynam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Economy of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 specific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4"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dator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al 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core curriculum, two additional credits of the track are to be chosen from the category of courses labeled ‘Advanced Topics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828800"/>
          <a:ext cx="7505640" cy="3886200"/>
        </p:xfrm>
        <a:graphic>
          <a:graphicData uri="http://schemas.openxmlformats.org/drawingml/2006/table">
            <a:tbl>
              <a:tblPr/>
              <a:tblGrid>
                <a:gridCol w="868320"/>
                <a:gridCol w="668520"/>
                <a:gridCol w="1130040"/>
                <a:gridCol w="2819520"/>
                <a:gridCol w="708120"/>
                <a:gridCol w="1311120"/>
              </a:tblGrid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tle of 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s Ru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cal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s Ru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y Method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 Sg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ourse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bor T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ative Data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et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 of Change in Political Scie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sten Schne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-Theoretic Methods in the Social Sciences: Theory and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 Beno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34:28Z</dcterms:created>
  <dc:creator>CEU</dc:creator>
  <dc:description/>
  <dc:language>en-US</dc:language>
  <cp:lastModifiedBy>CEU</cp:lastModifiedBy>
  <dcterms:modified xsi:type="dcterms:W3CDTF">2010-09-15T13:28:22Z</dcterms:modified>
  <cp:revision>45</cp:revision>
  <dc:subject/>
  <dc:title>Slide 1</dc:title>
</cp:coreProperties>
</file>